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0CAA-1F1C-4965-8313-A41AE946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8BA9-3911-4076-BDAF-AE3271D2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20EE-9F12-4E3D-927A-2ABCFBAA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36EA-D795-4BCC-AE4F-306FDECB9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883E-F13D-4E38-B7E4-F27D6C60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2B54-D182-40E4-B558-CEC43D98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7868-978B-45CC-BE95-DABEF8B8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4EA6-0787-4FD3-A270-3E7C80C6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E74E-D89B-4509-AE12-D92BF4BE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9C4C-FD64-4E4F-A5DC-39DA8991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214-2C9B-4A37-8B08-1A9F0D0B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17AA-D326-4C82-9AF5-6F151561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4C7A-E094-48F2-BDD7-D1EA8450E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Komninos Zer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n to a working class Greek family in Victoria in 195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 to poetry: microbiology, outreach youth worker, campaigning for the rights of non-English speaking Australians, café owner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performance poetry and creative writing facilitator for 10 yea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ed a wide range of venues including pubs, schools and prisons and made appearances on TV and rad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rote a number of anthologies of poetry including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Komninos by the Kup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e writes a combination of social commentary and autobiograph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reated several hypertext poems including “Underground” and “”Cyberpoet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e is exploring this new medium of poetry and teaches Cybermedia at Griffith University, Queens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23:49:48Z</dcterms:created>
  <dc:creator>Jen</dc:creator>
  <dc:description/>
  <dc:language>en-US</dc:language>
  <cp:lastModifiedBy>Jen</cp:lastModifiedBy>
  <dcterms:modified xsi:type="dcterms:W3CDTF">2010-03-18T07:25:27Z</dcterms:modified>
  <cp:revision>2</cp:revision>
  <dc:subject/>
  <dc:title>Komninos Zervos</dc:title>
</cp:coreProperties>
</file>